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FEA-617D-4509-ADAA-C837937B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2A1-573C-46FA-8EBA-6562A009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CD6-119E-410A-A963-54C144FD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6F6-A20F-48A8-B2DF-316907F8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996-B5A9-411F-A0A7-15AB62E7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558-12F8-4F61-9BB4-EA2A3777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87E-8AC4-437F-AD3F-CFA00BAA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D58-426C-4EFC-946B-5954DC7E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4C1-EE3D-481F-BB5F-9F295A27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52C-94A2-48B9-8DCD-860054AB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DD1-F4A4-4A95-8A1D-687C5FE9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017-71C2-45BD-8A42-4FDBF266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7F60-349A-4388-9408-D41E320068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944880" y="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0" y="1630440"/>
            <a:ext cx="639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EX  PRESIDENTS              EX  PRESIDENTS                    EX  PRESIDENTS  50TH                     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Glasgow Churches Assoc1"/>
          <p:cNvPicPr/>
          <p:nvPr/>
        </p:nvPicPr>
        <p:blipFill>
          <a:blip r:embed="rId1"/>
          <a:stretch/>
        </p:blipFill>
        <p:spPr>
          <a:xfrm>
            <a:off x="1712880" y="227664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Glasgow Hospitals Assoc1"/>
          <p:cNvPicPr/>
          <p:nvPr/>
        </p:nvPicPr>
        <p:blipFill>
          <a:blip r:embed="rId2"/>
          <a:stretch/>
        </p:blipFill>
        <p:spPr>
          <a:xfrm>
            <a:off x="3224160" y="198900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Glasgow Hospitals Assoc 50th"/>
          <p:cNvPicPr/>
          <p:nvPr/>
        </p:nvPicPr>
        <p:blipFill>
          <a:blip r:embed="rId3"/>
          <a:stretch/>
        </p:blipFill>
        <p:spPr>
          <a:xfrm>
            <a:off x="5097600" y="213372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Glasgow 800"/>
          <p:cNvPicPr/>
          <p:nvPr/>
        </p:nvPicPr>
        <p:blipFill>
          <a:blip r:embed="rId4"/>
          <a:stretch/>
        </p:blipFill>
        <p:spPr>
          <a:xfrm>
            <a:off x="6537240" y="2133720"/>
            <a:ext cx="1096920" cy="110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Glasgow v Ayrshire 100th"/>
          <p:cNvPicPr/>
          <p:nvPr/>
        </p:nvPicPr>
        <p:blipFill>
          <a:blip r:embed="rId5"/>
          <a:stretch/>
        </p:blipFill>
        <p:spPr>
          <a:xfrm>
            <a:off x="200160" y="371628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Glasgow Secretaries 100th"/>
          <p:cNvPicPr/>
          <p:nvPr/>
        </p:nvPicPr>
        <p:blipFill>
          <a:blip r:embed="rId6"/>
          <a:stretch/>
        </p:blipFill>
        <p:spPr>
          <a:xfrm>
            <a:off x="128520" y="2060640"/>
            <a:ext cx="1023840" cy="121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0" y="320184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RETARIES  100TH                 GLASGOW  CHURCHES   ASSOC   GLASGOW  HOSPITAL  ASSOC        HOSPITAL  ASSOC  50TH               GLASGOW  800           GLASGOW  800  ANNIVERSARY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Glasgow Secretaries 1"/>
          <p:cNvPicPr/>
          <p:nvPr/>
        </p:nvPicPr>
        <p:blipFill>
          <a:blip r:embed="rId7"/>
          <a:stretch/>
        </p:blipFill>
        <p:spPr>
          <a:xfrm>
            <a:off x="7977240" y="54936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Ayrshire v Glasgow 150th"/>
          <p:cNvPicPr/>
          <p:nvPr/>
        </p:nvPicPr>
        <p:blipFill>
          <a:blip r:embed="rId8"/>
          <a:stretch/>
        </p:blipFill>
        <p:spPr>
          <a:xfrm>
            <a:off x="1639800" y="3573360"/>
            <a:ext cx="1463760" cy="143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Glasgow Link"/>
          <p:cNvPicPr/>
          <p:nvPr/>
        </p:nvPicPr>
        <p:blipFill>
          <a:blip r:embed="rId9"/>
          <a:stretch/>
        </p:blipFill>
        <p:spPr>
          <a:xfrm>
            <a:off x="3440160" y="3933720"/>
            <a:ext cx="1039680" cy="106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Glasgow 800th Anniv"/>
          <p:cNvPicPr/>
          <p:nvPr/>
        </p:nvPicPr>
        <p:blipFill>
          <a:blip r:embed="rId10"/>
          <a:stretch/>
        </p:blipFill>
        <p:spPr>
          <a:xfrm>
            <a:off x="7905600" y="1700280"/>
            <a:ext cx="1584360" cy="150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Glasgow Secretaries 2"/>
          <p:cNvPicPr/>
          <p:nvPr/>
        </p:nvPicPr>
        <p:blipFill>
          <a:blip r:embed="rId11"/>
          <a:stretch/>
        </p:blipFill>
        <p:spPr>
          <a:xfrm>
            <a:off x="6465960" y="54936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Glasgow Ex Presidents 4"/>
          <p:cNvPicPr/>
          <p:nvPr/>
        </p:nvPicPr>
        <p:blipFill>
          <a:blip r:embed="rId12"/>
          <a:stretch/>
        </p:blipFill>
        <p:spPr>
          <a:xfrm>
            <a:off x="5097600" y="692280"/>
            <a:ext cx="914400" cy="987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0" y="4941720"/>
            <a:ext cx="1020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V  AYRSHIRE  100TH GLASGOW  V  AYRESHIRE  150TH   GLASGOW  BREWARY 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Glasgow Ex Presidents 3"/>
          <p:cNvPicPr/>
          <p:nvPr/>
        </p:nvPicPr>
        <p:blipFill>
          <a:blip r:embed="rId13"/>
          <a:stretch/>
        </p:blipFill>
        <p:spPr>
          <a:xfrm>
            <a:off x="1784520" y="333360"/>
            <a:ext cx="1206360" cy="131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Glasgow Ex Presidents 2"/>
          <p:cNvPicPr/>
          <p:nvPr/>
        </p:nvPicPr>
        <p:blipFill>
          <a:blip r:embed="rId14"/>
          <a:stretch/>
        </p:blipFill>
        <p:spPr>
          <a:xfrm>
            <a:off x="0" y="260280"/>
            <a:ext cx="1371600" cy="1376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0"/>
          <p:cNvSpPr/>
          <p:nvPr/>
        </p:nvSpPr>
        <p:spPr>
          <a:xfrm>
            <a:off x="6248520" y="162864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 SECRETARIES                 SECRETARIE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Glasgow Ex Presidents 50th.JPG"/>
          <p:cNvPicPr/>
          <p:nvPr/>
        </p:nvPicPr>
        <p:blipFill>
          <a:blip r:embed="rId15"/>
          <a:stretch/>
        </p:blipFill>
        <p:spPr>
          <a:xfrm>
            <a:off x="3224160" y="189000"/>
            <a:ext cx="13176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08:28:07Z</dcterms:created>
  <dc:creator>HP authorized customer</dc:creator>
  <dc:description/>
  <dc:language>en-US</dc:language>
  <cp:lastModifiedBy>John</cp:lastModifiedBy>
  <dcterms:modified xsi:type="dcterms:W3CDTF">2011-11-15T22:48:39Z</dcterms:modified>
  <cp:revision>20</cp:revision>
  <dc:subject/>
  <dc:title>Slide 1</dc:title>
</cp:coreProperties>
</file>